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773-8247-42BB-9B2F-ADD6369E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6CD-7307-4BB7-8C24-DFB7F7C2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C9FA1-D0F6-4090-9B4F-6100A29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B0EE4-9FAE-48AC-8790-227F85B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592D9-050C-4218-B24C-54578EB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8A8F6-0E08-45BE-B5C4-E010E18D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5CA24-D94A-47DB-809A-3BED070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1371A-5B61-4173-85DE-CB7AC09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B6536-D051-4FFA-BBED-F92D70A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71777-38B6-448C-B96A-278F113D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098F-82BF-4B4B-A198-83BC126C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8484A-4F1C-4DA6-8FD9-34DD3CB4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C50-37B8-49CF-AC7E-AA395D88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FC622-2ED9-496B-B86D-78C0DE07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C52D9-1246-49CD-A9EB-799FF3B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D4627-EAAD-41CB-893F-2C2D3A41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81FBF-2B9C-41B9-B376-172B0CFC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ADCA-A5A3-43B9-B546-D8405FF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D60A2-6A1B-4EE1-9B5A-A052D6D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2C105-9B59-45D9-ADCC-F1C72BD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04088-BB7D-427A-9714-65BA5A9A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C81FE-5755-4BFC-8214-B22FF694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BEC20-849F-43C7-AA27-56269317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AEE-9BE4-42F6-B9E7-F0A1B100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71B68-5D03-4C2A-9A81-709100BA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A3628-DDC3-4698-A9B2-411C396B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CD577-0372-4B16-92C3-27F15786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22187-F47E-4282-9F15-7B7369EE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BDF6A-F85A-468A-9552-9088AEA0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49D1B-DCA9-4280-814C-0F8990C6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69E5-2B8A-4546-9F8E-B27B7B4E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C1A7-9B38-4E47-9C6B-E15502D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B56F8-1A53-42A8-852A-D224DC7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D9FAC-D003-43DC-9961-F924883E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9369-3563-4CA3-B852-BDEBC70F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35033-334B-4F5A-8F15-0BB28FD9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FF1B-E280-4FDB-B9B5-975CA48F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9CFC1-3BA5-4309-A404-4218D029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A850B-4D9B-4782-8D6B-68BB9D64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95AFA-758B-4AB8-BD11-86BBD0CC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E99B-7569-40CC-8007-09F2B22D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14DB9-90CA-40BB-869D-5DC04A27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75A2C-1313-41D6-A1A0-699D4C4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166DF-295E-4466-B266-C92B0675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F5F14-B960-4D24-B9AD-4F41D48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4C6-53E8-4CD8-A8D8-4B40567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5F8F5-968F-4E87-9988-49B94F4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D2BEE-BBAB-471F-BF14-9BBDDAA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AE1CD-D65D-43E7-95BB-3DF16FF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41AD0-A99D-46D1-8A0F-329D9AAD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85F23-2160-4B25-BA03-2ECAEC97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A433-FA72-48AA-B264-E26E4A21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71F4-2207-42E1-A718-703A023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3FF-8B40-42E0-A7F2-DC562F01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1685-F549-4609-B418-71BB7E9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540-3AAF-4855-B7F3-7E26047B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FA9-9B71-443E-BB9C-DB7C330E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E211-1388-4BA4-BBFA-1D00AEF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22FC-66BA-4715-B8D2-780E7516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CA92-1747-4C9D-A984-4827778A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1431-50F6-44AD-97C0-817791C0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029D-10D9-4438-A9DA-BC9BE1F3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39A2-8DD9-44CF-9833-2B93B655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0BBD-5DF2-4588-B381-CEAB5E07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FE73-2B87-4D7F-939B-31FDD07D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0212-B9C6-4916-B631-A8AB702F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AF78-1D9C-42B9-A396-20528077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7D6-611D-421C-A9F3-F66D0F7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494B-07FE-4616-8493-84BD198E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7440-D77F-4BA5-8775-658D2B3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D8C0-307A-4E43-8267-CDFCAA4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D162-E4B9-4C4B-AD54-4674175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2A28-14B7-415F-B792-F1FCE8B0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3379-F7B1-4054-9EC7-9F46D45B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C642-03EF-40FF-8326-F4E33A8D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64EC-558A-4BCA-A741-21B38491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13A4-3F19-4697-BBF6-A8748F3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D6081-F766-493A-A322-FC2B45DE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575-D908-442A-A475-046735C7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7FFC-6029-450D-9653-A3278C61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D293-5C7C-475E-AC2A-82E2114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CAD9-F6FF-42C4-976E-77C5F868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4D45-6D2C-4B2F-8119-9FE0018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0F58-A88C-4E56-895A-97CA2B6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CA28-15BD-4877-B121-2FF7DAA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1D11-495A-4AD9-B35F-9BFEDF3C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B760-E4F9-4A98-9C06-2D6C4AA0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9A9D-1A63-4149-B87E-5C42E1E2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C83F-73A8-4D1D-98BA-62DD65B6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DBE-3450-4B33-BABE-F7C9428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74E0-4A60-4AC2-8474-8651731F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76D74-8D59-4FAA-8EE9-10975F87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8AFC4-5282-4DC8-B028-B70DFB3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A5C51-CCB9-4CD2-B4E5-9BC0742C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68AD-457D-4153-97E1-387DECDC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A798-7E9E-43E7-ACA3-961F41B3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4AF5-12EE-4CBA-90B8-AE9B3085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4712-1842-45D3-964B-0056EA0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7399-957C-4BE1-914E-B18D4C8E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5F7A-1083-4A3D-AD1D-B50481BA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212-1943-4B52-9690-C6C097EC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3AE4-7E2D-4303-9550-074F9A71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6611-EA70-488C-A1AC-F8578C15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5DF2-B23B-41D6-8031-4D494F75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10B6-B926-47F1-9D15-E904DA9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89A5-4D4B-43A5-B684-17601FA6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16C9-D588-432F-8556-3559438F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0640E-C33D-488F-9A2B-3A7C015C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CA8B9-5EB4-47F7-802A-21E0A055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5A09-4475-4AF7-854A-45715A1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A2687-3D36-44F7-9C38-D9A3257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F78-AC26-4F3F-BFB7-134D0E8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17C8-9CB2-4FE1-A942-A13713EF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BBF09-E476-4660-850F-B64C8AC1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19894-E1D6-4104-B237-45C6FAB5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37A5-72C7-497E-A7E7-DBC19B02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1CBD-E6C9-422A-A902-05070114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52CE-7EE3-4359-973F-437EDC19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4241-7FC8-40C2-892B-C490EDB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3AE89-FC26-4095-98E9-0032F061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6046F-4EBA-4DB6-A97A-E6A8F2F0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38DA-55B5-4BFB-ABDD-2E531C1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B8B-D1C9-4577-A0A9-1F01F5F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8B85A-36A7-4B4C-ABB0-4EEDC0E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D84C-0020-4160-8E4F-B376DED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1554-507C-493C-805E-A5E10148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74BD-0676-4439-90C0-BCF775B3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28D9-A4DE-45F5-86CA-89E81788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C872C-8801-44EB-896D-812AA512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C8BC-9C6C-47CD-8AE8-9BACBAE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B9097-BF73-4983-A762-19803B10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27DB-072B-45E9-993A-2D4A2A8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B780B-6ABF-40D6-BB92-30DE15A6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360-4E26-40F8-8B70-A28CA2C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76D21-1EE6-40AF-8A5A-6AC6350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B23A7-6A17-417C-AF94-EC42279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C6F94-EA6D-4925-85AD-4F7CBBA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06234-2BDB-4A76-949B-0C7FC29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E4499-3812-4377-9EDC-5F20540D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3A233-08AA-47B2-B938-0B380F0B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EBCB1-B114-4F9E-BA1D-9BE66295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B5190-1077-416C-A2C3-F952D326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F5954-3036-4AB1-A241-E7039CDE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B1097-092D-4AFB-B831-7796E3A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6045-A228-4CE6-B028-C19F447A03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9BB0-1B14-4BCF-B8C6-93C0821FB6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2C3D-B431-4740-B4C3-F00CA023FB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5925-132D-4814-AC4B-A20E5A6AFD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99E2-8093-4FDA-A591-08518C3B0B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9BD0-D5C5-44AB-A442-F3F60636D1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F28-8E19-4C26-8DB7-537484562E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350-7E79-41B0-9CE1-203AFFBF5A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8E9-01DA-419F-BEE7-74F6BDF05A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73BA-211F-4042-987D-A2C083E5A5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D0D-75E7-43BE-A1CE-519CDEB85D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1E8-F963-4DAE-AEAF-DE6D20B5B7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2 To Slovo tvoje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Slovo tvoje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zácne dedičs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máme stály sily zdr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iery bohatstv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vojej láske čítam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j zámer pozna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oje rady pomôž db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zákon pln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spásy je vždy útech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srdcia skrúš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v kríži nádej z tvojich sl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lásky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Slovo v tôni lúč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tvojho svetla svit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prijme milosť spas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bude večne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11:53Z</dcterms:modified>
  <cp:revision>21</cp:revision>
  <dc:subject/>
  <dc:title>Je veľký náš Pán, on slávy je Kráľ Nech do všetkých strán  spev vrúcnych znie chvál.</dc:title>
</cp:coreProperties>
</file>